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C1D-53A3-45BC-A080-EBA8D29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92B-9553-463A-B1CB-C2FF56A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FFF-9831-4137-8536-132DFC35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653-A9DF-43D8-9B80-C62DDD96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03-7016-4CD1-A6E8-840E7015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ABF-E373-4DBA-9B47-A61D8D2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E92-B191-4539-A9A6-1066DFC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516-7AE3-478C-A0CE-60232DE3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CEF-8A52-4D85-8149-4CF1177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FDA-6AC4-4F3B-9016-1036EFD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BAB-B50B-45FA-90C8-2D92F2B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8A0-120D-41CA-84CB-6619CB5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BC0B-E9D6-4F3F-8253-0423C4C8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945877cEaAGZliKr_ph" descr=""/>
          <p:cNvPicPr/>
          <p:nvPr/>
        </p:nvPicPr>
        <p:blipFill>
          <a:blip r:embed="rId2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960" y="44280"/>
            <a:ext cx="429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ثلِ الإبنِ الش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رح إرجَع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َك يا هالن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عدروب ال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ا قدِّملك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ثلِ الإبن الشاط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عندك يخل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دربي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997209garmnR_ph" descr=""/>
          <p:cNvPicPr/>
          <p:nvPr/>
        </p:nvPicPr>
        <p:blipFill>
          <a:blip r:embed="rId2"/>
          <a:stretch/>
        </p:blipFill>
        <p:spPr>
          <a:xfrm>
            <a:off x="0" y="0"/>
            <a:ext cx="5630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2800" y="44280"/>
            <a:ext cx="39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2:43Z</dcterms:modified>
  <cp:revision>7</cp:revision>
  <dc:subject/>
  <dc:title>PowerPoint Presentation</dc:title>
</cp:coreProperties>
</file>